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F44-9AC9-41A8-BC75-6754CBE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C03-66EB-4FD5-89CC-1527215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FEF-7F93-4CF1-BCC1-8098F4D7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918-A897-4D20-BBA7-BF35D8A3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DBC-6B4A-4C4F-B6F4-7A75CF66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D8D-734B-49AF-A315-B0FD1BF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327-0DA2-4D25-987B-A492B122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B07-3FFC-4696-9C7C-DBDCF9B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7E0-139F-45C6-A731-E19F171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B95-7A72-4BE3-925B-275F037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D83-CF05-4953-BFB9-CB64F5A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2E6-25A7-42C5-9504-8EC8CB0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1DE2-390C-44B4-A429-FF0FAB22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2, .3, .3, .5, .5, .5, .5, .5, .6, .6, .6, .7, 1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609480"/>
            <a:ext cx="685800" cy="99072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8600"/>
            <a:ext cx="3353040" cy="1523880"/>
          </a:xfrm>
          <a:prstGeom prst="rect">
            <a:avLst/>
          </a:prstGeom>
          <a:solidFill>
            <a:srgbClr val="bbe0e3">
              <a:alpha val="31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1219320" cy="838080"/>
          </a:xfrm>
          <a:prstGeom prst="rect">
            <a:avLst/>
          </a:prstGeom>
          <a:solidFill>
            <a:srgbClr val="bbe0e3">
              <a:alpha val="31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9000" y="1676520"/>
            <a:ext cx="1447920" cy="60948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5240" y="3505320"/>
            <a:ext cx="2904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1.6 - .2 = 1.4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85800"/>
            <a:ext cx="685800" cy="762120"/>
          </a:xfrm>
          <a:prstGeom prst="rect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762120"/>
            <a:ext cx="685800" cy="761760"/>
          </a:xfrm>
          <a:prstGeom prst="rect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714680"/>
            <a:ext cx="4038480" cy="266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 most reliable data found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 most frequent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alculated by subtracting the lowest number from the highest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7:12:28Z</dcterms:created>
  <dc:creator>ctcriss</dc:creator>
  <dc:description/>
  <dc:language>en-US</dc:language>
  <cp:lastModifiedBy>ctcriss</cp:lastModifiedBy>
  <dcterms:modified xsi:type="dcterms:W3CDTF">2011-09-21T17:12:39Z</dcterms:modified>
  <cp:revision>1</cp:revision>
  <dc:subject/>
  <dc:title>Slide 1</dc:title>
</cp:coreProperties>
</file>